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121F-7DBB-4DBA-A2CB-8E84C342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A636-D279-4679-BCF6-3358B0F4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D091-A0B8-43F0-906F-053EE126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D110-43DA-41A8-9E5F-228CCE88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DAB-CEAE-407D-8FF1-859C92D5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9DE0-2526-4809-A0B2-3F9BFBB3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F06-56BE-4C01-8927-7D627174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EE8-3FCC-4107-8A19-A5535297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E059-E578-4E47-95A7-537EDD01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D8C-95E4-4A29-9770-76AE02B7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C66-9D0C-49AC-AEBD-19F64B87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429-DD27-46DB-B589-53E413E6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B173-A770-44F6-B636-FC13052BC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es pays de la francopho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Les Cul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To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666880" y="7621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67280" y="7621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191120" y="4572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238880" y="152388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’Afrique de l’o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a population de l’Afrique est de 760 millions d’habitants!  Au Canada , nous sommes près de 32 mill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a température est très chaude et hum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es trains et les autobus sont les principaux moyens de transports. Ils sont souvent trop charg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Au Canada, 43% possèdent une auto. En Côte d’Ivoire 1% seu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43800" y="4572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’Afrique de l’O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Plusieurs groupes ethniques vivent en Afrique de l’oue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*Les Ash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*Les Il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*Les Yoru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*Les Ha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*Les Ful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fr-CA" sz="3200" spc="-1" strike="noStrike">
                <a:solidFill>
                  <a:srgbClr val="000000"/>
                </a:solidFill>
                <a:latin typeface="Comic Sans MS"/>
              </a:rPr>
              <a:t>Connais-tu différents groupes ethniques au Canada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191120" y="2362320"/>
            <a:ext cx="159048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es cultures du mo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Voici les pays du monde que tu vas voir cette année:  Savais-tu que les habitants de ces pays utilisent souvent le frança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0000"/>
                </a:solidFill>
                <a:uFillTx/>
                <a:latin typeface="Comic Sans MS"/>
              </a:rPr>
              <a:t>Le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0000"/>
                </a:solidFill>
                <a:uFillTx/>
                <a:latin typeface="Comic Sans MS"/>
              </a:rPr>
              <a:t>L’Afrique de l’Ouest:</a:t>
            </a: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 (Bénin,Burkina Faso,Cap-Vert, Côte d’Ivoire, Gambie, Ghana, Guinée, Guinée-Bissau, Libéria, Mali, Mauritanie, Niger, Nigéria, Sénégal, Sierra Leone et le To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0000"/>
                </a:solidFill>
                <a:uFillTx/>
                <a:latin typeface="Comic Sans MS"/>
              </a:rPr>
              <a:t>L’I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0000"/>
                </a:solidFill>
                <a:uFillTx/>
                <a:latin typeface="Comic Sans MS"/>
              </a:rPr>
              <a:t>Le Bré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0000"/>
                </a:solidFill>
                <a:uFillTx/>
                <a:latin typeface="Comic Sans MS"/>
              </a:rPr>
              <a:t>Le Jap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es cultures du mo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Sur une mappe du monde, identifie les pays que tu viens d’écrire.  Utilise un Atlas pour t’aider.  N’oublie pas </a:t>
            </a:r>
            <a:r>
              <a:rPr b="1" i="1" lang="fr-CA" sz="3600" spc="-1" strike="noStrike" u="sng">
                <a:solidFill>
                  <a:srgbClr val="000000"/>
                </a:solidFill>
                <a:uFillTx/>
                <a:latin typeface="Comic Sans MS"/>
              </a:rPr>
              <a:t>l’automatisa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29000" y="39625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23:46:02Z</dcterms:created>
  <dc:creator>nbdoe</dc:creator>
  <dc:description/>
  <dc:language>en-US</dc:language>
  <cp:lastModifiedBy>nbdoe</cp:lastModifiedBy>
  <dcterms:modified xsi:type="dcterms:W3CDTF">2008-02-18T14:36:11Z</dcterms:modified>
  <cp:revision>3</cp:revision>
  <dc:subject/>
  <dc:title>Les pays de la francophonie</dc:title>
</cp:coreProperties>
</file>